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EC95-B8F3-47D5-9CB0-859269694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D997-BC83-4B98-B9E2-7EF6FE64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5995-E3FA-4CA3-A210-BE099894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8D86-0A65-4490-A97D-3A0B731DD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50FB-6FFA-450B-BD68-2F9042A3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FD12-38FE-4C2A-9FCE-86DBC581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CF93-5AA6-471A-A750-F6C7A801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0439-3413-4017-9676-9DAFD0DA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FC9E-7BBE-4340-ACF7-910BD6DB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58DF-884A-42D0-9AD9-6339227F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61EC-0138-4731-B613-A96ED663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57A0-4207-4EC2-B8FF-02A83E95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7E19-85A8-4D30-850D-C2372C5E0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4876920" cy="3227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2" name=""/>
          <p:cNvSpPr txBox="1"/>
          <p:nvPr/>
        </p:nvSpPr>
        <p:spPr>
          <a:xfrm>
            <a:off x="304920" y="533520"/>
            <a:ext cx="60195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3399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ypes of Weathering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3399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2590200" y="6324480"/>
            <a:ext cx="323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© Copyright 2004 - 2005.  M. J. Krech. All rights reserved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981080"/>
            <a:ext cx="7010280" cy="2438640"/>
          </a:xfrm>
          <a:prstGeom prst="rect">
            <a:avLst/>
          </a:prstGeom>
          <a:solidFill>
            <a:srgbClr val="009999">
              <a:alpha val="4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Hydrolysi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9900">
              <a:alpha val="36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eldspar +Water = Cla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480" y="495288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ldsp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8520" y="579132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lay Cl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80880" y="2666880"/>
            <a:ext cx="2590920" cy="1943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962520" y="2362320"/>
            <a:ext cx="4211640" cy="31636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43000" y="1930320"/>
            <a:ext cx="6477120" cy="4546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6324840" cy="1295640"/>
          </a:xfrm>
          <a:prstGeom prst="rect">
            <a:avLst/>
          </a:prstGeom>
          <a:solidFill>
            <a:srgbClr val="99cc00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Plant Acid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2209680"/>
            <a:ext cx="7162560" cy="1905120"/>
          </a:xfrm>
          <a:prstGeom prst="rect">
            <a:avLst/>
          </a:prstGeom>
          <a:solidFill>
            <a:srgbClr val="bbe0e3">
              <a:alpha val="5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Sulfuric Aci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76280" y="380880"/>
            <a:ext cx="3646440" cy="5791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532440" y="6172200"/>
            <a:ext cx="34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 taken 100 years 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5640" y="617220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 taken rec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>
            <a:lum bright="16000"/>
          </a:blip>
          <a:stretch/>
        </p:blipFill>
        <p:spPr>
          <a:xfrm>
            <a:off x="4876920" y="304920"/>
            <a:ext cx="3619440" cy="5867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052360" y="228600"/>
            <a:ext cx="5039280" cy="459720"/>
          </a:xfrm>
          <a:prstGeom prst="rect">
            <a:avLst/>
          </a:prstGeom>
          <a:solidFill>
            <a:srgbClr val="00808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of these are Civil War headst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4267080" cy="26258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505320" y="3692520"/>
            <a:ext cx="5105160" cy="25970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4874400" y="2057400"/>
            <a:ext cx="3943440" cy="459720"/>
          </a:xfrm>
          <a:prstGeom prst="rect">
            <a:avLst/>
          </a:prstGeom>
          <a:solidFill>
            <a:srgbClr val="00808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has one weathered mo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3920" y="36576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487692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1523520"/>
            <a:ext cx="7086600" cy="2133720"/>
          </a:xfrm>
          <a:prstGeom prst="rect">
            <a:avLst/>
          </a:prstGeom>
          <a:solidFill>
            <a:srgbClr val="ff6600">
              <a:alpha val="36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Oxidatio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828800" y="1365120"/>
            <a:ext cx="7315200" cy="5492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9880" cy="29512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14440" y="22824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of oxid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0" r="0" b="11029"/>
          <a:stretch/>
        </p:blipFill>
        <p:spPr>
          <a:xfrm>
            <a:off x="0" y="0"/>
            <a:ext cx="4330800" cy="5486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343400" y="2106720"/>
            <a:ext cx="4800600" cy="475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43400" y="-360"/>
            <a:ext cx="4795920" cy="2133720"/>
          </a:xfrm>
          <a:prstGeom prst="rect">
            <a:avLst/>
          </a:prstGeom>
          <a:solidFill>
            <a:srgbClr val="ff0000">
              <a:alpha val="64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Carbona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620120" cy="3505320"/>
          </a:xfrm>
          <a:prstGeom prst="rect">
            <a:avLst/>
          </a:prstGeom>
          <a:solidFill>
            <a:srgbClr val="ff9900">
              <a:alpha val="36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9999"/>
                </a:solidFill>
                <a:latin typeface="Times New Roman"/>
              </a:rPr>
              <a:t>Mechanical Weathering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343400" y="0"/>
            <a:ext cx="38098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7200" y="457200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e wed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52480" y="914400"/>
            <a:ext cx="5486400" cy="1312920"/>
          </a:xfrm>
          <a:prstGeom prst="rect">
            <a:avLst/>
          </a:prstGeom>
          <a:solidFill>
            <a:srgbClr val="99cc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ind weathere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ero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ter Weathering and Ero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472428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9520" y="990720"/>
            <a:ext cx="5257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Gravit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6653" b="0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5257800"/>
            <a:ext cx="586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Root Pr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3352680"/>
          </a:xfrm>
          <a:prstGeom prst="rect">
            <a:avLst/>
          </a:prstGeom>
          <a:solidFill>
            <a:srgbClr val="ff9900">
              <a:alpha val="4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9999"/>
                </a:solidFill>
                <a:latin typeface="Times New Roman"/>
              </a:rPr>
              <a:t>Chemical </a:t>
            </a:r>
            <a:br>
              <a:rPr sz="9600"/>
            </a:br>
            <a:r>
              <a:rPr b="1" lang="en-US" sz="9600" spc="-1" strike="noStrike">
                <a:solidFill>
                  <a:srgbClr val="009999"/>
                </a:solidFill>
                <a:latin typeface="Times New Roman"/>
              </a:rPr>
              <a:t>Weathering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2T14:08:03Z</dcterms:created>
  <dc:creator>SI</dc:creator>
  <dc:description/>
  <dc:language>en-US</dc:language>
  <cp:lastModifiedBy>staff</cp:lastModifiedBy>
  <dcterms:modified xsi:type="dcterms:W3CDTF">2008-01-07T15:14:06Z</dcterms:modified>
  <cp:revision>91</cp:revision>
  <dc:subject/>
  <dc:title>PowerPoint Presentation</dc:title>
</cp:coreProperties>
</file>